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D8B-00D6-4D32-B0CB-E2A8D9CB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05C-99AA-45C4-867B-2FE56B7A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274-CE0C-4D00-9587-4755C081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C26-5884-40F2-AA2A-3ED7322E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00F-42C4-477C-BD98-A8FF561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863-F2C7-4E31-95D9-3D48B3D1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7E4-294D-4209-AA8A-3BFAF5AF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DF1-02F2-4BA6-8DBE-52F37AEA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FC5-50DF-4BB1-A5F6-4D5119BC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916-DA5A-4194-A0DC-40F6C8A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552-3562-451F-BCF9-DBF24A1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15E-9F28-44F6-AA06-7FCD35DB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E37C-DBEB-4C7D-8F5E-DAC5FF777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54936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ملكة العربية السعودية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إدارة التربية والتعليم بمحافظة ...........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درسة  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"/>
              </a:rPr>
              <a:t>تنفيذ مركز مصادر التعل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56536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رحبا بكم في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سابقة ( ملتقى الضاد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048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- هو بخار الماء الكثيف</a:t>
            </a:r>
            <a:br>
              <a:rPr sz="6000"/>
            </a:b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و يغشى الأرض كالدخان ؟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3300"/>
                </a:solidFill>
                <a:latin typeface="Arial"/>
              </a:rPr>
              <a:t>الضب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هي وظيفة القلب الأساسية في الجسم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3300"/>
                </a:solidFill>
                <a:latin typeface="Arial"/>
              </a:rPr>
              <a:t>ضــخ الـدم</a:t>
            </a:r>
            <a:r>
              <a:rPr b="0" lang="ar-SA" sz="1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ما هي السورة التي سميت باسم وقت من أوقات الزمن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ح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العملية الأساسية في الحساب و الجبر ؟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ــر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ينفذ من الاجسـام الشفافة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و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عظام الصدر تسمى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لــــو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6:22:47Z</dcterms:created>
  <dc:creator>AAAAAA</dc:creator>
  <dc:description/>
  <dc:language>en-US</dc:language>
  <cp:lastModifiedBy>pcw_mos_24-11-07</cp:lastModifiedBy>
  <dcterms:modified xsi:type="dcterms:W3CDTF">2009-02-09T16:16:33Z</dcterms:modified>
  <cp:revision>4</cp:revision>
  <dc:subject/>
  <dc:title>1- هو بخار الماء الكثيف  و يغشى الأرض كالدخان ؟ </dc:title>
</cp:coreProperties>
</file>